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FD05C-C95E-4069-AD2E-3209B691D9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831F31-E10F-4E1F-98DC-9376E11E4A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22B44-7102-4B1C-B68C-BA660F3926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862AC-83EA-49C7-A94C-47CD92206A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9AF18-40A4-407E-811A-39FBBF2CB4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E774B-BACC-4564-9610-B7A2DA0888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20B38-E6B5-4D3D-9367-8BD5FDCB1A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BEACD-77B7-4310-A826-B99ACF3A98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2D452-AE86-47FE-BCAD-FC981B7AF2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CB714-F85A-4E0B-9E02-24DD71D558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87DC-4395-4055-8303-DA955F912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86742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4518000"/>
            <a:ext cx="86742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28E5-1B75-43E7-917F-00610338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32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1912680"/>
            <a:ext cx="4232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4518000"/>
            <a:ext cx="4232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518000"/>
            <a:ext cx="4232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875C-0615-47F9-A1D1-E23A7754C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2792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3280" y="1912680"/>
            <a:ext cx="2792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86200" y="1912680"/>
            <a:ext cx="2792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4518000"/>
            <a:ext cx="2792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3280" y="4518000"/>
            <a:ext cx="2792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86200" y="4518000"/>
            <a:ext cx="2792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849A-DCC7-405C-9D0A-711037C4F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CCC0-9000-44B0-9FE3-36A32959B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0360" y="1912680"/>
            <a:ext cx="86742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7A46-48A0-48D1-8A49-A8CDB7DA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86742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3E7F-47CD-4FB2-93D0-31AEF620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328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5280" y="1912680"/>
            <a:ext cx="42328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BBAD-2089-449E-B3F8-39FCE5CA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0A74-667F-4E79-9463-FB226D6D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4360" y="539640"/>
            <a:ext cx="906948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A36A-E89D-4160-9FBB-748D31B1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32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5280" y="1912680"/>
            <a:ext cx="42328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0360" y="4518000"/>
            <a:ext cx="4232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5215-F036-4743-A8DE-A7B08CAA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12680"/>
            <a:ext cx="86742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6A04-13B5-4E63-A82C-798DA5DE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328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1912680"/>
            <a:ext cx="4232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5280" y="4518000"/>
            <a:ext cx="4232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E577-B320-4881-9A91-2A800E27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32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5280" y="1912680"/>
            <a:ext cx="4232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0360" y="4518000"/>
            <a:ext cx="86742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F683-0238-4F5A-8712-13D82373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86742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0360" y="4518000"/>
            <a:ext cx="86742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3496-AEA5-4F8F-BD4D-D2E8E0C6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32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1912680"/>
            <a:ext cx="4232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0360" y="4518000"/>
            <a:ext cx="4232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5280" y="4518000"/>
            <a:ext cx="4232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628B-53BF-404F-8399-8F8ACC905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2792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53280" y="1912680"/>
            <a:ext cx="2792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86200" y="1912680"/>
            <a:ext cx="2792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0360" y="4518000"/>
            <a:ext cx="2792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53280" y="4518000"/>
            <a:ext cx="2792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86200" y="4518000"/>
            <a:ext cx="2792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7CD8-FCF1-46EE-A8EF-C01569810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86742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76D8-9DF2-4E65-8AA8-0CF15E29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328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1912680"/>
            <a:ext cx="42328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A5D5-77A8-4654-B043-662DF889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D2EF-6547-41DC-882B-632CD258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360" y="539640"/>
            <a:ext cx="906948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98C8-89A4-42DD-A3AC-EDE82FA8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32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1912680"/>
            <a:ext cx="42328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4518000"/>
            <a:ext cx="4232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AC85-BF89-45B5-B223-2629BEA5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328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1912680"/>
            <a:ext cx="4232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518000"/>
            <a:ext cx="4232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606D-7263-4D95-A744-B046C81F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12680"/>
            <a:ext cx="4232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1912680"/>
            <a:ext cx="42328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4518000"/>
            <a:ext cx="86742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D193-1733-402C-A9FD-DF110F1F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913619E-F25D-411B-867F-6F2601B36C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360" y="53964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360" y="1912680"/>
            <a:ext cx="86742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76000" y="65278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52788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154640" y="65278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74C7FC8-659F-4618-A4E9-F54C31813758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533520" y="1871640"/>
            <a:ext cx="9042120" cy="3505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/>
          <a:srcRect l="6177" t="0" r="0" b="0"/>
          <a:stretch/>
        </p:blipFill>
        <p:spPr>
          <a:xfrm>
            <a:off x="533520" y="1871640"/>
            <a:ext cx="4921200" cy="35053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616360" y="3633840"/>
            <a:ext cx="3958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onstantia"/>
              </a:rPr>
              <a:t>E-Viva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3"/>
          <a:stretch/>
        </p:blipFill>
        <p:spPr>
          <a:xfrm>
            <a:off x="6840360" y="2087640"/>
            <a:ext cx="1428840" cy="1209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1224000" y="1908000"/>
          <a:ext cx="5481720" cy="274680"/>
        </p:xfrm>
        <a:graphic>
          <a:graphicData uri="http://schemas.openxmlformats.org/drawingml/2006/table">
            <a:tbl>
              <a:tblPr/>
              <a:tblGrid>
                <a:gridCol w="5481720"/>
              </a:tblGrid>
              <a:tr h="274680">
                <a:tc>
                  <a:txBody>
                    <a:bodyPr lIns="6840" rIns="6840" tIns="6840" bIns="684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Peugeot-Bold"/>
                        </a:rPr>
                        <a:t>TECHNICAL SPECIFICATION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Peugeot-Bold"/>
                        </a:rPr>
                        <a:t>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8507520" y="216000"/>
            <a:ext cx="1428480" cy="120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"/>
          <p:cNvGraphicFramePr/>
          <p:nvPr/>
        </p:nvGraphicFramePr>
        <p:xfrm>
          <a:off x="4176720" y="2266920"/>
          <a:ext cx="5492880" cy="2263680"/>
        </p:xfrm>
        <a:graphic>
          <a:graphicData uri="http://schemas.openxmlformats.org/drawingml/2006/table">
            <a:tbl>
              <a:tblPr/>
              <a:tblGrid>
                <a:gridCol w="2359080"/>
                <a:gridCol w="3133800"/>
              </a:tblGrid>
              <a:tr h="160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Peugeot-Bold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Peugeot-Bold"/>
                        </a:rPr>
                        <a:t>Maximum spe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Peugeot"/>
                        </a:rPr>
                        <a:t>restricted to 45 km/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Peugeot-Bold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84d1"/>
                          </a:solidFill>
                          <a:latin typeface="Verdana"/>
                          <a:ea typeface="Peugeot-Bold"/>
                        </a:rPr>
                        <a:t>O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Peugeot-Bold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Peugeot-Bold"/>
                        </a:rPr>
                        <a:t>«JET-IN» sto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Peugeot"/>
                        </a:rPr>
                        <a:t>for one 1/2 jet helmet with vis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Peugeot-Bold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Peugeot-Bold"/>
                        </a:rPr>
                        <a:t>Underseat sto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Peugeot"/>
                        </a:rPr>
                        <a:t>for one full face helm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Peugeot-Bold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Peugeot-Bold"/>
                        </a:rPr>
                        <a:t>Ext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Peugeot"/>
                        </a:rPr>
                        <a:t>2 side mirros, rim alu. 12’’, central st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4d1"/>
                          </a:solidFill>
                          <a:latin typeface="Verdana"/>
                          <a:ea typeface="Peugeot-Bold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84d1"/>
                          </a:solidFill>
                          <a:latin typeface="Verdana"/>
                          <a:ea typeface="Peugeot-Bold"/>
                        </a:rPr>
                        <a:t>Cos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Peugeot-Bold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Peugeot-Bold"/>
                        </a:rPr>
                        <a:t>Full charge (60k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Peugeot-Bold"/>
                        </a:rPr>
                        <a:t>0€25 (manufacturer dat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Peugeot-Bold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Peugeot-Bold"/>
                        </a:rPr>
                        <a:t>Maintenance inter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Peugeot-Bold"/>
                        </a:rPr>
                        <a:t>10 000 kms (24 months) (manufacturer dat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56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Peugeot-Bold"/>
                        </a:rPr>
                        <a:t>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76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Peugeot-Bold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84d1"/>
                          </a:solidFill>
                          <a:latin typeface="Verdana"/>
                          <a:ea typeface="Peugeot-Bold"/>
                        </a:rPr>
                        <a:t>Guarant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Peugeot-Bold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Peugeot-Bold"/>
                        </a:rPr>
                        <a:t>Scoo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Peugeot-Bold"/>
                        </a:rPr>
                        <a:t>2 yea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9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Peugeot-Bold"/>
                        </a:rPr>
                        <a:t>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Peugeot-Bold"/>
                        </a:rPr>
                        <a:t>Batter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Peugeot-Bold"/>
                        </a:rPr>
                        <a:t>4 yea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2664000" y="5580000"/>
          <a:ext cx="6480000" cy="1349280"/>
        </p:xfrm>
        <a:graphic>
          <a:graphicData uri="http://schemas.openxmlformats.org/drawingml/2006/table">
            <a:tbl>
              <a:tblPr/>
              <a:tblGrid>
                <a:gridCol w="3257280"/>
                <a:gridCol w="3222720"/>
              </a:tblGrid>
              <a:tr h="1349280"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Peugeot"/>
                        </a:rPr>
                        <a:t>Salesm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Peugeot"/>
                        </a:rPr>
                        <a:t>Presles High scho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Peugeot"/>
                        </a:rPr>
                        <a:t>Boulevard du 8 mai 19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Peugeot"/>
                        </a:rPr>
                        <a:t>B.P. 70310 – 03306 CUSSET CED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Peugeot"/>
                        </a:rPr>
                        <a:t>Standard : 04 70 97 25 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Peugeot"/>
                        </a:rPr>
                        <a:t>Fax:04 70 97 64 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Peugeot"/>
                        </a:rPr>
                        <a:t>Web : http://lyc-presles.entauvergne.f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Peugeot"/>
                        </a:rPr>
                        <a:t>Head off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Peugeot"/>
                        </a:rPr>
                        <a:t>PSA Peugeot Citroë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Peugeot"/>
                        </a:rPr>
                        <a:t>Paris, Grande Armé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Peugeot"/>
                        </a:rPr>
                        <a:t>75, avenue de la Grande Armé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Peugeot"/>
                        </a:rPr>
                        <a:t>75116 PAR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Peugeot"/>
                        </a:rPr>
                        <a:t>Standard : 01 40 66 55 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Peugeot"/>
                        </a:rPr>
                        <a:t>Addr : BP 01 16 75761 Paris Cedex 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0" y="1835280"/>
            <a:ext cx="3894120" cy="26128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2"/>
          <p:cNvSpPr/>
          <p:nvPr/>
        </p:nvSpPr>
        <p:spPr>
          <a:xfrm>
            <a:off x="-2533680" y="1747800"/>
            <a:ext cx="15238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Col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: white or bl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"/>
          <p:cNvSpPr/>
          <p:nvPr/>
        </p:nvSpPr>
        <p:spPr>
          <a:xfrm>
            <a:off x="719280" y="4932360"/>
            <a:ext cx="3533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Peugeot-Bold"/>
              </a:rPr>
              <a:t>Total price 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Peugeot-Bold"/>
              </a:rPr>
              <a:t>3 59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eugeot-Bold"/>
              </a:rPr>
              <a:t>€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Peugeot-Bold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  <a:ea typeface="Peugeot-Bold"/>
              </a:rPr>
              <a:t>MS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0" y="0"/>
            <a:ext cx="100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0" rIns="216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735920" y="89280"/>
            <a:ext cx="6608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jaVu Sans"/>
                <a:ea typeface="Peugeot-Bold"/>
              </a:rPr>
              <a:t>Estimate E-VIVACITY </a:t>
            </a:r>
            <a:r>
              <a:rPr b="0" lang="en-US" sz="1800" spc="-1" strike="noStrike">
                <a:solidFill>
                  <a:srgbClr val="000000"/>
                </a:solidFill>
                <a:latin typeface="DejaVu Sans"/>
                <a:ea typeface="Peugeot-Bold"/>
              </a:rPr>
              <a:t>to M.Maston &amp; Mrs.Gaz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0" y="457200"/>
            <a:ext cx="100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1079640" y="4427640"/>
            <a:ext cx="15238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Color : white or bl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evivacity.mp4" descr=""/>
          <p:cNvPicPr/>
          <p:nvPr/>
        </p:nvPicPr>
        <p:blipFill>
          <a:blip r:embed="rId1"/>
          <a:stretch/>
        </p:blipFill>
        <p:spPr>
          <a:xfrm>
            <a:off x="1224000" y="900000"/>
            <a:ext cx="7618320" cy="571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24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576720" y="107928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More than 20 years of experience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860400" y="3024360"/>
            <a:ext cx="2882880" cy="4238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8352000" y="230040"/>
            <a:ext cx="1428480" cy="1209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03640" y="4750920"/>
            <a:ext cx="41752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996 : Scoot’Elec 100% electr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6360" y="1079280"/>
            <a:ext cx="280836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Our aw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8352000" y="230040"/>
            <a:ext cx="1428480" cy="12099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672000" y="2955600"/>
            <a:ext cx="568800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Green Fleet Manufacturer of the year 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2"/>
          <a:stretch/>
        </p:blipFill>
        <p:spPr>
          <a:xfrm>
            <a:off x="382680" y="2735280"/>
            <a:ext cx="2857320" cy="1047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3"/>
          <a:stretch/>
        </p:blipFill>
        <p:spPr>
          <a:xfrm>
            <a:off x="701640" y="456084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3672000" y="4824360"/>
            <a:ext cx="5688000" cy="12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Scottish Car of the Year Awards 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Next Green Car City Car Winner 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2010 grünes Lenkrad Aw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6048360" y="7199280"/>
            <a:ext cx="4032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Source: http://www.greenfleetawards.co.uk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2519280" y="1987560"/>
            <a:ext cx="5067360" cy="50673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91640" y="177840"/>
            <a:ext cx="5256360" cy="10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Technical spec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8567640" y="87480"/>
            <a:ext cx="1428840" cy="12096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72000" y="4824000"/>
            <a:ext cx="5688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 flipH="1">
            <a:off x="4175280" y="1871640"/>
            <a:ext cx="6508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4896000" y="1871640"/>
            <a:ext cx="431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 flipH="1">
            <a:off x="6838920" y="4392720"/>
            <a:ext cx="86688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 flipV="1">
            <a:off x="2232000" y="5973840"/>
            <a:ext cx="720720" cy="93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1800360" y="5759280"/>
            <a:ext cx="13683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0"/>
          <p:cNvSpPr/>
          <p:nvPr/>
        </p:nvSpPr>
        <p:spPr>
          <a:xfrm>
            <a:off x="2160720" y="3095640"/>
            <a:ext cx="129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1"/>
          <p:cNvSpPr/>
          <p:nvPr/>
        </p:nvSpPr>
        <p:spPr>
          <a:xfrm flipV="1">
            <a:off x="5543640" y="5902200"/>
            <a:ext cx="1440" cy="65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2"/>
          <p:cNvSpPr/>
          <p:nvPr/>
        </p:nvSpPr>
        <p:spPr>
          <a:xfrm flipH="1">
            <a:off x="5830920" y="2952720"/>
            <a:ext cx="8668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4248000" y="1473120"/>
            <a:ext cx="1440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Side mi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576360" y="2808360"/>
            <a:ext cx="165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Front 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1224000" y="6912000"/>
            <a:ext cx="216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Rim aluminium 12’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216000" y="5543640"/>
            <a:ext cx="1800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Front bra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disc Ø200 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7"/>
          <p:cNvSpPr/>
          <p:nvPr/>
        </p:nvSpPr>
        <p:spPr>
          <a:xfrm flipH="1" flipV="1">
            <a:off x="6694200" y="5757840"/>
            <a:ext cx="1227240" cy="57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7704000" y="6191280"/>
            <a:ext cx="1944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Rear bra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drum Ø110 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4824360" y="6624720"/>
            <a:ext cx="1655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central st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6048360" y="2519280"/>
            <a:ext cx="2087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Underseat 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7559640" y="4076640"/>
            <a:ext cx="2448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Arial Unicode MS"/>
              </a:rPr>
              <a:t>Rear suspen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  <a:ea typeface="Arial Unicode MS"/>
              </a:rPr>
              <a:t>hydraulic shock absorb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2"/>
          <p:cNvSpPr/>
          <p:nvPr/>
        </p:nvSpPr>
        <p:spPr>
          <a:xfrm>
            <a:off x="1944720" y="4824360"/>
            <a:ext cx="1800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3"/>
          <p:cNvSpPr/>
          <p:nvPr/>
        </p:nvSpPr>
        <p:spPr>
          <a:xfrm>
            <a:off x="144360" y="4464000"/>
            <a:ext cx="1944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Front susp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hydraulic f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8567640" y="87480"/>
            <a:ext cx="1428840" cy="1209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2"/>
          <a:srcRect l="12862" t="0" r="12862" b="10163"/>
          <a:stretch/>
        </p:blipFill>
        <p:spPr>
          <a:xfrm>
            <a:off x="7128000" y="2681280"/>
            <a:ext cx="2746080" cy="2214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3"/>
          <a:srcRect l="2357" t="0" r="0" b="0"/>
          <a:stretch/>
        </p:blipFill>
        <p:spPr>
          <a:xfrm>
            <a:off x="7031160" y="5472000"/>
            <a:ext cx="2976480" cy="2030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4"/>
          <a:srcRect l="9998" t="5006" r="0" b="20056"/>
          <a:stretch/>
        </p:blipFill>
        <p:spPr>
          <a:xfrm>
            <a:off x="0" y="5040360"/>
            <a:ext cx="4535640" cy="2516040"/>
          </a:xfrm>
          <a:prstGeom prst="rect">
            <a:avLst/>
          </a:prstGeom>
          <a:ln w="0">
            <a:noFill/>
          </a:ln>
        </p:spPr>
      </p:pic>
      <p:sp>
        <p:nvSpPr>
          <p:cNvPr id="132" name="Line 5"/>
          <p:cNvSpPr/>
          <p:nvPr/>
        </p:nvSpPr>
        <p:spPr>
          <a:xfrm>
            <a:off x="6983280" y="4896000"/>
            <a:ext cx="180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7056360" y="4992840"/>
            <a:ext cx="2808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Retro-eclaired dash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2016000" y="5197320"/>
            <a:ext cx="2087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Underseat 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"/>
          <p:cNvPicPr/>
          <p:nvPr/>
        </p:nvPicPr>
        <p:blipFill>
          <a:blip r:embed="rId5"/>
          <a:stretch/>
        </p:blipFill>
        <p:spPr>
          <a:xfrm>
            <a:off x="19080" y="0"/>
            <a:ext cx="2286000" cy="3430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"/>
          <p:cNvPicPr/>
          <p:nvPr/>
        </p:nvPicPr>
        <p:blipFill>
          <a:blip r:embed="rId6"/>
          <a:stretch/>
        </p:blipFill>
        <p:spPr>
          <a:xfrm>
            <a:off x="2879640" y="720720"/>
            <a:ext cx="3081600" cy="20541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0"/>
          <p:cNvSpPr/>
          <p:nvPr/>
        </p:nvSpPr>
        <p:spPr>
          <a:xfrm>
            <a:off x="287280" y="3479760"/>
            <a:ext cx="158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Front whe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3600360" y="2879640"/>
            <a:ext cx="158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Rear whe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2" descr=""/>
          <p:cNvPicPr/>
          <p:nvPr/>
        </p:nvPicPr>
        <p:blipFill>
          <a:blip r:embed="rId7"/>
          <a:stretch/>
        </p:blipFill>
        <p:spPr>
          <a:xfrm>
            <a:off x="3781440" y="3654360"/>
            <a:ext cx="2606760" cy="8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8567640" y="87480"/>
            <a:ext cx="1428840" cy="1209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2"/>
          <a:srcRect l="0" t="10040" r="5009" b="5669"/>
          <a:stretch/>
        </p:blipFill>
        <p:spPr>
          <a:xfrm>
            <a:off x="716040" y="85680"/>
            <a:ext cx="5403600" cy="3595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3"/>
          <a:srcRect l="29897" t="4970" r="34876" b="4970"/>
          <a:stretch/>
        </p:blipFill>
        <p:spPr>
          <a:xfrm>
            <a:off x="7332840" y="2087640"/>
            <a:ext cx="2746080" cy="39672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4861080" y="4797360"/>
            <a:ext cx="179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CAD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"/>
          <p:cNvSpPr/>
          <p:nvPr/>
        </p:nvSpPr>
        <p:spPr>
          <a:xfrm flipH="1">
            <a:off x="3596760" y="647640"/>
            <a:ext cx="72396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3887640" y="287280"/>
            <a:ext cx="17290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Electric motor 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  <a:ea typeface="Arial Unicode MS"/>
              </a:rPr>
              <a:t>(in bl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7"/>
          <p:cNvSpPr/>
          <p:nvPr/>
        </p:nvSpPr>
        <p:spPr>
          <a:xfrm flipH="1">
            <a:off x="4390560" y="1655640"/>
            <a:ext cx="15145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5256360" y="1297080"/>
            <a:ext cx="38163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synchronous belt transmi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  <a:ea typeface="Arial Unicode MS"/>
              </a:rPr>
              <a:t>(in yell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9" descr=""/>
          <p:cNvPicPr/>
          <p:nvPr/>
        </p:nvPicPr>
        <p:blipFill>
          <a:blip r:embed="rId4"/>
          <a:stretch/>
        </p:blipFill>
        <p:spPr>
          <a:xfrm>
            <a:off x="287280" y="5111640"/>
            <a:ext cx="3840120" cy="2160720"/>
          </a:xfrm>
          <a:prstGeom prst="rect">
            <a:avLst/>
          </a:prstGeom>
          <a:ln w="0">
            <a:noFill/>
          </a:ln>
        </p:spPr>
      </p:pic>
      <p:sp>
        <p:nvSpPr>
          <p:cNvPr id="149" name="Line 10"/>
          <p:cNvSpPr/>
          <p:nvPr/>
        </p:nvSpPr>
        <p:spPr>
          <a:xfrm>
            <a:off x="2160720" y="5040360"/>
            <a:ext cx="144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1008000" y="4386240"/>
            <a:ext cx="23036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Couple of batteries (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  <a:ea typeface="Arial Unicode MS"/>
              </a:rPr>
              <a:t>in gre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" descr=""/>
          <p:cNvPicPr/>
          <p:nvPr/>
        </p:nvPicPr>
        <p:blipFill>
          <a:blip r:embed="rId1"/>
          <a:stretch/>
        </p:blipFill>
        <p:spPr>
          <a:xfrm>
            <a:off x="87480" y="357120"/>
            <a:ext cx="1280880" cy="15876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20720" y="720720"/>
            <a:ext cx="619128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omies guaranteed 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2"/>
          <a:stretch/>
        </p:blipFill>
        <p:spPr>
          <a:xfrm>
            <a:off x="8507520" y="216000"/>
            <a:ext cx="1428480" cy="1209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"/>
          <p:cNvPicPr/>
          <p:nvPr/>
        </p:nvPicPr>
        <p:blipFill>
          <a:blip r:embed="rId3"/>
          <a:stretch/>
        </p:blipFill>
        <p:spPr>
          <a:xfrm>
            <a:off x="6335640" y="2160720"/>
            <a:ext cx="3368880" cy="3456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4967280" y="3589200"/>
            <a:ext cx="64764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1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Courier New"/>
                <a:ea typeface="Arial Unicode MS"/>
              </a:rPr>
              <a:t>V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"/>
          <p:cNvPicPr/>
          <p:nvPr/>
        </p:nvPicPr>
        <p:blipFill>
          <a:blip r:embed="rId4"/>
          <a:srcRect l="4985" t="0" r="4985" b="0"/>
          <a:stretch/>
        </p:blipFill>
        <p:spPr>
          <a:xfrm>
            <a:off x="482760" y="2265480"/>
            <a:ext cx="4052880" cy="32796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7"/>
          <p:cNvSpPr/>
          <p:nvPr/>
        </p:nvSpPr>
        <p:spPr>
          <a:xfrm>
            <a:off x="1371600" y="5616720"/>
            <a:ext cx="19414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E-vivacity elect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6480000" y="5616720"/>
            <a:ext cx="31654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Vivacity 3 (heat engine, 50c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743040" y="6421320"/>
            <a:ext cx="31446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3 599€</a:t>
            </a:r>
            <a:r>
              <a:rPr b="0" i="1" lang="fr-FR" sz="1000" spc="-1" strike="noStrike" baseline="41000">
                <a:solidFill>
                  <a:srgbClr val="000000"/>
                </a:solidFill>
                <a:latin typeface="Verdana"/>
                <a:ea typeface="Arial Unicode MS"/>
              </a:rPr>
              <a:t>MSRP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+ 0€41 per 100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6377040" y="6445080"/>
            <a:ext cx="3271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1649 €</a:t>
            </a:r>
            <a:r>
              <a:rPr b="0" i="1" lang="fr-FR" sz="1000" spc="-1" strike="noStrike" baseline="41000">
                <a:solidFill>
                  <a:srgbClr val="000000"/>
                </a:solidFill>
                <a:latin typeface="Verdana"/>
                <a:ea typeface="Arial Unicode MS"/>
              </a:rPr>
              <a:t>MSRP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+ 5€059 per 100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1"/>
          <p:cNvSpPr/>
          <p:nvPr/>
        </p:nvSpPr>
        <p:spPr>
          <a:xfrm>
            <a:off x="2232000" y="6119640"/>
            <a:ext cx="1440" cy="30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2"/>
          <p:cNvSpPr/>
          <p:nvPr/>
        </p:nvSpPr>
        <p:spPr>
          <a:xfrm>
            <a:off x="8064360" y="6119640"/>
            <a:ext cx="180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3"/>
          <p:cNvSpPr/>
          <p:nvPr/>
        </p:nvSpPr>
        <p:spPr>
          <a:xfrm>
            <a:off x="4032360" y="5975280"/>
            <a:ext cx="287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4"/>
          <p:cNvSpPr/>
          <p:nvPr/>
        </p:nvSpPr>
        <p:spPr>
          <a:xfrm flipH="1">
            <a:off x="6046560" y="5975280"/>
            <a:ext cx="2905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3959280" y="6767640"/>
            <a:ext cx="2519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Break-even after 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1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8720" y="791640"/>
            <a:ext cx="71276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ustainable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2181240" y="2135160"/>
            <a:ext cx="5716440" cy="4200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"/>
          <p:cNvPicPr/>
          <p:nvPr/>
        </p:nvPicPr>
        <p:blipFill>
          <a:blip r:embed="rId2"/>
          <a:stretch/>
        </p:blipFill>
        <p:spPr>
          <a:xfrm>
            <a:off x="8507520" y="216000"/>
            <a:ext cx="1428480" cy="12096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287280" y="2292480"/>
            <a:ext cx="180036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fr-FR" sz="1600" spc="-1" strike="noStrike">
                <a:solidFill>
                  <a:srgbClr val="008000"/>
                </a:solidFill>
                <a:latin typeface="Verdana"/>
                <a:ea typeface="Arial Unicode MS"/>
              </a:rPr>
              <a:t>No oil</a:t>
            </a:r>
            <a:br>
              <a:rPr sz="1600"/>
            </a:br>
            <a:r>
              <a:rPr b="1" lang="fr-FR" sz="1600" spc="-1" strike="noStrike">
                <a:solidFill>
                  <a:srgbClr val="008000"/>
                </a:solidFill>
                <a:latin typeface="Verdana"/>
                <a:ea typeface="Arial Unicode MS"/>
              </a:rPr>
              <a:t>No fu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fr-FR" sz="1600" spc="-1" strike="noStrike">
                <a:solidFill>
                  <a:srgbClr val="008000"/>
                </a:solidFill>
                <a:latin typeface="Verdana"/>
                <a:ea typeface="Arial Unicode MS"/>
              </a:rPr>
              <a:t>No batt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fr-FR" sz="1600" spc="-1" strike="noStrike">
                <a:solidFill>
                  <a:srgbClr val="008000"/>
                </a:solidFill>
                <a:latin typeface="Verdana"/>
                <a:ea typeface="Arial Unicode MS"/>
              </a:rPr>
              <a:t>No CO</a:t>
            </a:r>
            <a:r>
              <a:rPr b="1" lang="fr-FR" sz="1600" spc="-1" strike="noStrike" baseline="-20000">
                <a:solidFill>
                  <a:srgbClr val="008000"/>
                </a:solidFill>
                <a:latin typeface="Verdana"/>
                <a:ea typeface="Arial Unicode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fr-FR" sz="2000" spc="-1" strike="noStrike" baseline="-20000">
                <a:solidFill>
                  <a:srgbClr val="008000"/>
                </a:solidFill>
                <a:latin typeface="Verdana"/>
                <a:ea typeface="Arial Unicode MS"/>
              </a:rPr>
              <a:t>No high h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4319640" y="6335640"/>
            <a:ext cx="337968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Arial"/>
                <a:ea typeface="Arial Unicode MS"/>
              </a:rPr>
              <a:t>Modern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Arial"/>
                <a:ea typeface="Arial Unicode MS"/>
              </a:rPr>
              <a:t>Noiselessly </a:t>
            </a:r>
            <a:r>
              <a:rPr b="1" lang="fr-FR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amp;</a:t>
            </a:r>
            <a:r>
              <a:rPr b="1" lang="fr-FR" sz="1800" spc="-1" strike="noStrike">
                <a:solidFill>
                  <a:srgbClr val="008000"/>
                </a:solidFill>
                <a:latin typeface="Arial"/>
                <a:ea typeface="Arial Unicode MS"/>
              </a:rPr>
              <a:t>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Too noiseles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Arial"/>
                <a:ea typeface="Arial Unicode MS"/>
              </a:rPr>
              <a:t>No sm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7848720" y="2749680"/>
            <a:ext cx="216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More exp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09:56:26Z</dcterms:created>
  <dc:creator/>
  <dc:description/>
  <dc:language>en-US</dc:language>
  <cp:lastModifiedBy>jriot</cp:lastModifiedBy>
  <dcterms:modified xsi:type="dcterms:W3CDTF">2012-02-01T17:31:47Z</dcterms:modified>
  <cp:revision>65</cp:revision>
  <dc:subject/>
  <dc:title>E-Vivacity</dc:title>
</cp:coreProperties>
</file>